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8B8-D4C8-49F9-AFEF-581B73EB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F4B-3BE1-4D7B-978F-AA493C68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DBF-067A-48AE-AC61-4FC8D267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2AD-D26D-4D07-9B8D-D885B676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CB2D-423F-44FE-BDDB-B27D6E49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7826-F1BA-4433-B13B-6FF1F26C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1E57-5FBF-4EB2-B9A7-41DE510D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311D-64FC-4CF2-B98A-6E8A6EF6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687C-3454-4192-873D-2BAB2F01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B1B8-646C-45B1-8D65-D11C22A7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628E-89B9-4553-AF10-425657C6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39D-0C4D-482C-BEFD-733AB7D6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9889-D71A-4BDD-B2F1-9EF6B311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8A70-F672-4054-9815-2BE4A63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8841-4AD7-44C3-8F85-FAD25B3B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3176-D91F-45AE-89C7-FA6492DA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A0CE-D465-45DD-B767-9209579D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B97-7C9F-4F2B-96D2-65C1AB1C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36F-B171-40F0-8AE2-BDCC5101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F63-7B87-4E65-9EA3-A122F3D7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8F2-7206-4943-BC43-F511C4E1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D24-FDB0-4F05-86BF-5DF3DDD9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A13-FC32-4231-B5CC-C2C1984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6FC-26A8-4805-892A-2E5EFE7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00F0-5C4E-4F3E-B593-E7408F40D07D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23C0-BDBC-417C-8F72-69823FD7AF2A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Triangle Sum Theorem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828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Triangle Sum Theore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m of the measures of the angles of a triangle are equal to 180 deg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1600200" y="3733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 flipV="1">
            <a:off x="2362320" y="3733560"/>
            <a:ext cx="114300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2362320" y="5638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3505320" y="3733920"/>
            <a:ext cx="114300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7432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2767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7339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666880" y="5105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0384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867280" y="36576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867280" y="3352680"/>
            <a:ext cx="304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5 = &lt; 3 and &lt; 4= &lt; 1 because alternate interior angles are congruent. Since &lt;1+ &lt; 2+ &lt; 3=180 degrees then the sum of the interior angles is 1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2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efinition of Remote Interior Angl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ior angle of a triangle that is not adjacent to a given exterior 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2286000" y="57913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6"/>
          <p:cNvSpPr/>
          <p:nvPr/>
        </p:nvSpPr>
        <p:spPr>
          <a:xfrm flipH="1" flipV="1">
            <a:off x="3505320" y="4038120"/>
            <a:ext cx="18288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 flipV="1">
            <a:off x="2362320" y="403812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74320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35268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434340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3341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6629400" y="350532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s 1 and 2 are remote Interior angles of angle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Exterior Angle Theore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terior Angle equals the sum of the two remote interior angles. (remote interior angles don’t touch the exterior ang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2057400" y="4038480"/>
            <a:ext cx="1981080" cy="13716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4038480" y="5410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 flipH="1">
            <a:off x="1294920" y="5410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4290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30481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2193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1828800" y="5105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89548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2438280" y="4876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35268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11480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257800" y="38098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4 equals the sum of &lt;1 +&lt;2 . 50+70= 120 so &lt;4= 1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rcRect l="35969" t="42594" r="29144" b="20370"/>
          <a:stretch/>
        </p:blipFill>
        <p:spPr>
          <a:xfrm>
            <a:off x="2590920" y="2057400"/>
            <a:ext cx="495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44019" t="42594" r="6334" b="33333"/>
          <a:stretch/>
        </p:blipFill>
        <p:spPr>
          <a:xfrm>
            <a:off x="1905120" y="2286000"/>
            <a:ext cx="6072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rcRect l="44019" t="38891" r="6334" b="18521"/>
          <a:stretch/>
        </p:blipFill>
        <p:spPr>
          <a:xfrm>
            <a:off x="1523880" y="2286000"/>
            <a:ext cx="6129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rcRect l="60123" t="51854" r="15727" b="27781"/>
          <a:stretch/>
        </p:blipFill>
        <p:spPr>
          <a:xfrm>
            <a:off x="914400" y="2057400"/>
            <a:ext cx="7358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189(15-27) a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copy the pictures!!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4:18:06Z</dcterms:created>
  <dc:creator>elliotsh</dc:creator>
  <dc:description/>
  <dc:language>en-US</dc:language>
  <cp:lastModifiedBy>BeasoA</cp:lastModifiedBy>
  <dcterms:modified xsi:type="dcterms:W3CDTF">2010-10-25T17:59:53Z</dcterms:modified>
  <cp:revision>20</cp:revision>
  <dc:subject/>
  <dc:title>Chapter 3.5 The Triangle Sum Theorem </dc:title>
</cp:coreProperties>
</file>